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ED0E8-EC7E-48AA-ABCF-8A91F087BE8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1C025-4DB5-48C6-AD5C-E38A10231A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CEE4E-32C1-4FC7-8EF2-15E59C535C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E177C-3882-4BA8-A09B-D714FD38D26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38461-D826-4246-9F6F-7952489942C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82392-8A6B-40FD-9809-0B5D8571EE8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123F5-5440-4736-8D0F-7C6BDC0D59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0B43B-2843-4B00-ADD7-960096E70C3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BC653-6148-4DB5-A25A-2C0DA8CFB02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C47A9-BFDA-4FF8-BCE9-8A764A0987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7C419-CF1F-4E4F-81B2-60C682554D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E797A-B2AE-4064-8E4F-B3ECEA5325C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3ED81-3A4E-44D3-A7BB-A945D9848D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E4FDB-03B7-450E-B545-9E3E28D9EC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B7FA0-85D9-4D02-B371-DFBCC8919D0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89598-FE72-43B3-980E-72383451A1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07847-4DD8-4FB2-8874-894EBECF3E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F0AFA-DF2E-4884-AE23-388EE3BDD14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8989F-2B7B-4606-BE6D-268CF087C73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079A0-206D-4130-A716-EBE10C2C68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44A4-11B9-4234-8081-988B2D71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8817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1600" y="3709440"/>
            <a:ext cx="8817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F895-3B9F-4D53-99DD-0F0ED388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9960" y="13460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1600" y="37094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9960" y="37094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1869-44EC-4BD9-B4BD-602C2BBC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283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2760" y="1346040"/>
            <a:ext cx="283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4280" y="1346040"/>
            <a:ext cx="283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1600" y="3709440"/>
            <a:ext cx="283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2760" y="3709440"/>
            <a:ext cx="283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4280" y="3709440"/>
            <a:ext cx="283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50D4-CE4E-4700-A8E1-C35DCAFC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2952-7DCA-4052-BFEE-0C9FB7C3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1600" y="1346040"/>
            <a:ext cx="8817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9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843C-7E70-4CFA-B096-2356F0FD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8817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3C16-A220-4893-8FC0-469E5CE4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4302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9960" y="1346040"/>
            <a:ext cx="4302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F456-FFBC-4D40-BBE3-EF040B3B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1683-7F57-4083-8E32-AA4E5FBB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3160" y="371520"/>
            <a:ext cx="87948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9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14E5-141B-4E26-89B0-D6786AA0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9960" y="1346040"/>
            <a:ext cx="4302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01600" y="37094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E6FF-BA8D-427A-B4EE-0810F3CB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1600" y="1346040"/>
            <a:ext cx="8817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9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0A21-4F6D-4AAC-BB9F-170120B4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4302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9960" y="13460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9960" y="37094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E4A3-82D7-40FE-B2FD-43B3AC99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9960" y="13460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1600" y="3709440"/>
            <a:ext cx="8817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FFC7-DC29-4C80-9D63-D93081B9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8817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01600" y="3709440"/>
            <a:ext cx="8817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8828-8A78-46DA-9F31-4364106E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9960" y="13460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1600" y="37094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9960" y="37094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F425-2504-42A6-B0EB-3FFB4FD5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283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2760" y="1346040"/>
            <a:ext cx="283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64280" y="1346040"/>
            <a:ext cx="283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1600" y="3709440"/>
            <a:ext cx="283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2760" y="3709440"/>
            <a:ext cx="283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64280" y="3709440"/>
            <a:ext cx="283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B44A-EC95-478D-B366-43244CD1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8817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C6A6-75CC-4215-85B0-D6AE1E69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4302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9960" y="1346040"/>
            <a:ext cx="4302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1A60-712C-43EC-818D-AC498964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F3AF-05CF-4498-A14B-68017E3D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3160" y="371520"/>
            <a:ext cx="87948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9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F1D6-1362-4089-A25F-F33DF8CA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9960" y="1346040"/>
            <a:ext cx="4302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1600" y="37094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EC8E-4D0D-4136-98F7-0552EF99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4302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9960" y="13460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9960" y="37094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EF6-9C12-4BBF-8ACB-EC39E1AE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1600" y="13460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9960" y="1346040"/>
            <a:ext cx="4302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1600" y="3709440"/>
            <a:ext cx="8817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094A-814D-487D-9F69-632C9AC4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3160" y="371520"/>
            <a:ext cx="8794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1600" y="1346040"/>
            <a:ext cx="8817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79000"/>
              </a:lnSpc>
              <a:spcBef>
                <a:spcPts val="901"/>
              </a:spcBef>
              <a:buClr>
                <a:srgbClr val="00247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9000"/>
              </a:lnSpc>
              <a:spcBef>
                <a:spcPts val="901"/>
              </a:spcBef>
              <a:buClr>
                <a:srgbClr val="e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901"/>
              </a:spcBef>
              <a:buClr>
                <a:srgbClr val="ffce05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D8232D-4F75-42A8-A54B-2DB2075335D4}" type="slidenum"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187200" y="1201680"/>
            <a:ext cx="8805960" cy="88920"/>
          </a:xfrm>
          <a:prstGeom prst="rect">
            <a:avLst/>
          </a:prstGeom>
          <a:solidFill>
            <a:srgbClr val="ffce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1520" y="1554120"/>
            <a:ext cx="850752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53EBCC-A20F-43A8-9766-DC89AE0F9DFE}" type="slidenum">
              <a:rPr b="1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79000"/>
              </a:lnSpc>
              <a:spcBef>
                <a:spcPts val="901"/>
              </a:spcBef>
              <a:buClr>
                <a:srgbClr val="002475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9000"/>
              </a:lnSpc>
              <a:spcBef>
                <a:spcPts val="901"/>
              </a:spcBef>
              <a:buClr>
                <a:srgbClr val="e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901"/>
              </a:spcBef>
              <a:buClr>
                <a:srgbClr val="ffce05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djusting for Depreciation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4A96D9-C3BC-4BBE-A466-EAE5EB4A0025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01600" y="1346040"/>
            <a:ext cx="8818560" cy="53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he truck example, the adjusting entry would b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R  Depreciation Expens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1,700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R  Accumulated Amortization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11,7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he furniture example, the adjusting entry would b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R  Depreciation Expens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    462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R  Accumulated Amortization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46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justing Entry for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7DCE1A-7A13-4805-88D4-83F2291A5260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01600" y="1346040"/>
            <a:ext cx="8818560" cy="53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Income Stat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799"/>
              </a:spcBef>
              <a:buClr>
                <a:srgbClr val="e0000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reciation expense is shown on the income statem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799"/>
              </a:spcBef>
              <a:buClr>
                <a:srgbClr val="e0000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depreciation expense item is shown separately (e.g.  Depreciation Expense – Truck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Balance She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799"/>
              </a:spcBef>
              <a:buClr>
                <a:srgbClr val="e0000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umulated depreciation is deducted from its respective fixed asset account on the balance she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799"/>
              </a:spcBef>
              <a:buClr>
                <a:srgbClr val="e0000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asset, with its related accumulated depreciation, is shown separately.  For example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ruck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$78,00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ss:  Accumulat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reciation    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 11,70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$66,3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73160" y="61920"/>
            <a:ext cx="879624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inancial Statement Present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1CD04B-3D6A-45C3-A7BD-B3DD91EE6BDD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01600" y="1346040"/>
            <a:ext cx="8818560" cy="53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metimes an asset is used for only part of a yea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00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 example, you purchase a building on May 1, 2007 for $120,000.  The building is expected to be used for 30 years, after which it will be worth $30,000.  Your company issued financial statements quarterly (i.e. every 3 months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nual depreciation = (120,000 – 30,000) / 30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= $3,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thly depreciation = 3,000 / 12 = $250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 mon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depreciation expense would b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quarter  $    0 an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quarter $500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73160" y="-1476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preciation for Part Yea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070BA1-891C-457C-9E6F-DEF8FA6D252A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01600" y="1345680"/>
            <a:ext cx="881856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declining-balance metho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is an alternative to the straight-line method of calculating depreci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declining-balance method is common because the government of Canada requires a variation of this method for income tax purpos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method calculates the annual depreciation by multiplying the remaining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depreciated cost (i.e. net book value)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y a fixed percentag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clining-Balance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4C0A4C-C5AD-4C0B-8F79-297B776403D9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01600" y="1345680"/>
            <a:ext cx="881856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me of the percentage rates set by the government are as follow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clining-Balance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80880" y="2286000"/>
          <a:ext cx="8458200" cy="3862440"/>
        </p:xfrm>
        <a:graphic>
          <a:graphicData uri="http://schemas.openxmlformats.org/drawingml/2006/table">
            <a:tbl>
              <a:tblPr/>
              <a:tblGrid>
                <a:gridCol w="1143000"/>
                <a:gridCol w="6324840"/>
                <a:gridCol w="990360"/>
              </a:tblGrid>
              <a:tr h="478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a Customs and Revenue Agenc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s of Capital Cost Allowance (Depreciation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s of brick, stone, or ce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s of frame, lot, or stuc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ice furniture and equip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obiles, trucks, tractors, computer equip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software (except system softwar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9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626F61-B60D-410D-B5FF-893647073AB6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01600" y="1345680"/>
            <a:ext cx="881856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:  you purchase computers on January 1, 2006 for $22,000.  The rate, per the previous slide, is 30%.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preciation expense would be calculated as follow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06: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riginal Cos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$22,000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Less: Depreci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($22,000 x 30%)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   6,6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Undepreciated co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(net book value)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$15,4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clining-Balance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152280" y="4572000"/>
            <a:ext cx="8991720" cy="1524960"/>
            <a:chOff x="152280" y="4572000"/>
            <a:chExt cx="8991720" cy="1524960"/>
          </a:xfrm>
        </p:grpSpPr>
        <p:grpSp>
          <p:nvGrpSpPr>
            <p:cNvPr id="180" name="Group 41"/>
            <p:cNvGrpSpPr/>
            <p:nvPr/>
          </p:nvGrpSpPr>
          <p:grpSpPr>
            <a:xfrm>
              <a:off x="5562720" y="4572000"/>
              <a:ext cx="1828800" cy="762120"/>
              <a:chOff x="5562720" y="4572000"/>
              <a:chExt cx="1828800" cy="762120"/>
            </a:xfrm>
          </p:grpSpPr>
          <p:sp>
            <p:nvSpPr>
              <p:cNvPr id="181" name="Line 39"/>
              <p:cNvSpPr/>
              <p:nvPr/>
            </p:nvSpPr>
            <p:spPr>
              <a:xfrm flipH="1">
                <a:off x="5562720" y="4572000"/>
                <a:ext cx="1828800" cy="762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40"/>
              <p:cNvSpPr/>
              <p:nvPr/>
            </p:nvSpPr>
            <p:spPr>
              <a:xfrm>
                <a:off x="6248520" y="5029200"/>
                <a:ext cx="1143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3" name="Text Box 42"/>
            <p:cNvSpPr/>
            <p:nvPr/>
          </p:nvSpPr>
          <p:spPr>
            <a:xfrm>
              <a:off x="152280" y="4756320"/>
              <a:ext cx="8991720" cy="13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2007: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Undepreciated Cost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        $15,400  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   Less: Depreciation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($15,400 x 30%)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    4,620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   Undepreciated cost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(net book value)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$10,78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1DED3A-C529-4763-9822-35718CB40225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01600" y="1346040"/>
            <a:ext cx="881856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 straight-line, assume the computers have an 8 year life with an ending value of $2,000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73160" y="61920"/>
            <a:ext cx="879624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mparison of the Two Methods of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9"/>
          <p:cNvGraphicFramePr/>
          <p:nvPr/>
        </p:nvGraphicFramePr>
        <p:xfrm>
          <a:off x="2438280" y="2119320"/>
          <a:ext cx="4338720" cy="47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119320"/>
                    <a:ext cx="4338720" cy="47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AutoShape 10"/>
          <p:cNvSpPr/>
          <p:nvPr/>
        </p:nvSpPr>
        <p:spPr>
          <a:xfrm>
            <a:off x="4952880" y="4343400"/>
            <a:ext cx="3276720" cy="1752480"/>
          </a:xfrm>
          <a:prstGeom prst="wedgeRoundRectCallout">
            <a:avLst>
              <a:gd name="adj1" fmla="val -55185"/>
              <a:gd name="adj2" fmla="val -65037"/>
              <a:gd name="adj3" fmla="val 1666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$22,000 - $2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$2,500 /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Group 14"/>
          <p:cNvGrpSpPr/>
          <p:nvPr/>
        </p:nvGrpSpPr>
        <p:grpSpPr>
          <a:xfrm>
            <a:off x="0" y="3772080"/>
            <a:ext cx="3962520" cy="3047760"/>
            <a:chOff x="0" y="3772080"/>
            <a:chExt cx="3962520" cy="3047760"/>
          </a:xfrm>
        </p:grpSpPr>
        <p:sp>
          <p:nvSpPr>
            <p:cNvPr id="191" name="AutoShape 11"/>
            <p:cNvSpPr/>
            <p:nvPr/>
          </p:nvSpPr>
          <p:spPr>
            <a:xfrm>
              <a:off x="3505320" y="3886200"/>
              <a:ext cx="457200" cy="28195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73440 h 2819520"/>
                <a:gd name="textAreaBottom" fmla="*/ 274608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3"/>
            <p:cNvSpPr/>
            <p:nvPr/>
          </p:nvSpPr>
          <p:spPr>
            <a:xfrm>
              <a:off x="0" y="3772080"/>
              <a:ext cx="3505320" cy="304776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he straight-line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ethod produ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epreciation figur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hat are the same each year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he net book value (NBV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r undepreciated co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gradually reduces until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t reaches the estimat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alvage value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Rectangle 15"/>
          <p:cNvSpPr/>
          <p:nvPr/>
        </p:nvSpPr>
        <p:spPr>
          <a:xfrm>
            <a:off x="7162920" y="64771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1463DA-44F5-4486-8EDF-21273D39969A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3160" y="61920"/>
            <a:ext cx="879624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mparison of the Two Methods of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4"/>
          <p:cNvGraphicFramePr/>
          <p:nvPr/>
        </p:nvGraphicFramePr>
        <p:xfrm>
          <a:off x="0" y="2133720"/>
          <a:ext cx="4338720" cy="47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338720" cy="47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11"/>
          <p:cNvGraphicFramePr/>
          <p:nvPr/>
        </p:nvGraphicFramePr>
        <p:xfrm>
          <a:off x="4686480" y="2133720"/>
          <a:ext cx="4457520" cy="47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6480" y="2133720"/>
                    <a:ext cx="4457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Group 12"/>
          <p:cNvGrpSpPr/>
          <p:nvPr/>
        </p:nvGrpSpPr>
        <p:grpSpPr>
          <a:xfrm>
            <a:off x="2286000" y="3772080"/>
            <a:ext cx="3962520" cy="3047760"/>
            <a:chOff x="2286000" y="3772080"/>
            <a:chExt cx="3962520" cy="3047760"/>
          </a:xfrm>
        </p:grpSpPr>
        <p:sp>
          <p:nvSpPr>
            <p:cNvPr id="201" name="AutoShape 13"/>
            <p:cNvSpPr/>
            <p:nvPr/>
          </p:nvSpPr>
          <p:spPr>
            <a:xfrm>
              <a:off x="5791320" y="3886200"/>
              <a:ext cx="457200" cy="28195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73440 h 2819520"/>
                <a:gd name="textAreaBottom" fmla="*/ 274608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14"/>
            <p:cNvSpPr/>
            <p:nvPr/>
          </p:nvSpPr>
          <p:spPr>
            <a:xfrm>
              <a:off x="2286000" y="3772080"/>
              <a:ext cx="3505320" cy="304776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he declining-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alance method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roduces depreci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igures that are the larger i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he early years and smaller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n the later years.  T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stimated final value i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gnored using thi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etho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Rectangle 15"/>
          <p:cNvSpPr/>
          <p:nvPr/>
        </p:nvSpPr>
        <p:spPr>
          <a:xfrm>
            <a:off x="7162920" y="64771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905E59-F6F3-4849-BEEF-C239A2A24615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01600" y="1345680"/>
            <a:ext cx="881856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ada Customs and Revenue Agency (CCRA) requires businesses to use the declining-balance method when calculating depreciation for tax purpos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addition, the CCRA generally allows 50% of the asset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 cost to be eligible for depreciation in its first year of use  …  regardless of the month it was purchas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CCRA refers to this as the 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0% Ru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ax Regul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C048A8-2D28-40BE-BFC0-1D0534A37192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01600" y="1345680"/>
            <a:ext cx="881856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w would the 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0% Ru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look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ax Regul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0" y="1914480"/>
          <a:ext cx="9144000" cy="49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14480"/>
                    <a:ext cx="9144000" cy="49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6172200" y="3962520"/>
            <a:ext cx="11430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6172200" y="4191120"/>
            <a:ext cx="114300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7162920" y="64771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8F9ED9-8D29-4B54-999F-C017FEA7B8F2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01600" y="1346040"/>
            <a:ext cx="88185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ssets that are used to produce revenue over several fiscal periods are known as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fixed assets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ixed assets are also known as 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ong-lived assets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ant and equipmen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xcept for land, all fixed assets will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e used up in the course of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ime and activity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justing for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93DECA-442F-4AF8-9143-5661EDCE6E28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01600" y="1346040"/>
            <a:ext cx="881856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79000"/>
              </a:lnSpc>
              <a:spcBef>
                <a:spcPts val="901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. 311, Exercise 1 (ignore Workbook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9000"/>
              </a:lnSpc>
              <a:spcBef>
                <a:spcPts val="901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. 312, Exercise 2 (For Part B, calculate depreciation with and without using the 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50% rule</a:t>
            </a: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”, not 55%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9000"/>
              </a:lnSpc>
              <a:spcBef>
                <a:spcPts val="901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. 313, Exercise 4  …  prepare the adjusting entries and an adjusted trial balance (ignore Workbook and use T-Account template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9000"/>
              </a:lnSpc>
              <a:spcBef>
                <a:spcPts val="901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. 324 Exercise 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73160" y="0"/>
            <a:ext cx="87962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ss / Home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AF0EF6-9A3F-46A5-B3E0-BF021B0F9982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01600" y="1346040"/>
            <a:ext cx="88185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ixed assets decrease or depreciate in valu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Depreciation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fers to an allowance made for the decrease in value of an asset over ti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t is not possible to calculate depreciation until the end of the asse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 life  …  only then, can you say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ow many years it was used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nd determine its final worth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justing for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720A55-890B-4127-9679-0CD7ADAC8D34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01600" y="1346040"/>
            <a:ext cx="88185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matching principle dictates that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depreciation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must be included on every year-end income statemen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 do this, accountants must estimate depreciation while the asset is still in us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two most common methods of calculating depreciation are the: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Straight-Line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method and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Declining-balance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method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justing for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63AA4C-627B-4727-884F-27757791F01D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01600" y="1346040"/>
            <a:ext cx="881856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simplest way to estimate depreciation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Straight-Line method of depreciation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divides up the net cost of the asset equally over the years of the asse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 lif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raight-Line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3"/>
          <p:cNvGrpSpPr/>
          <p:nvPr/>
        </p:nvGrpSpPr>
        <p:grpSpPr>
          <a:xfrm>
            <a:off x="1143000" y="4451400"/>
            <a:ext cx="7086600" cy="1494360"/>
            <a:chOff x="1143000" y="4451400"/>
            <a:chExt cx="7086600" cy="1494360"/>
          </a:xfrm>
        </p:grpSpPr>
        <p:sp>
          <p:nvSpPr>
            <p:cNvPr id="105" name="Text Box 4"/>
            <p:cNvSpPr/>
            <p:nvPr/>
          </p:nvSpPr>
          <p:spPr>
            <a:xfrm>
              <a:off x="1143000" y="4613400"/>
              <a:ext cx="2209680" cy="11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ight-Line Depreciation for one yea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5"/>
            <p:cNvSpPr/>
            <p:nvPr/>
          </p:nvSpPr>
          <p:spPr>
            <a:xfrm>
              <a:off x="3187440" y="4930920"/>
              <a:ext cx="4572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 Box 7"/>
            <p:cNvSpPr/>
            <p:nvPr/>
          </p:nvSpPr>
          <p:spPr>
            <a:xfrm>
              <a:off x="3657600" y="4451400"/>
              <a:ext cx="228600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iginal Cost of Ass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Text Box 8"/>
            <p:cNvSpPr/>
            <p:nvPr/>
          </p:nvSpPr>
          <p:spPr>
            <a:xfrm>
              <a:off x="5638680" y="4638600"/>
              <a:ext cx="4572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 Box 9"/>
            <p:cNvSpPr/>
            <p:nvPr/>
          </p:nvSpPr>
          <p:spPr>
            <a:xfrm>
              <a:off x="5867280" y="4451400"/>
              <a:ext cx="236232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timated Salvage Valu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10"/>
            <p:cNvSpPr/>
            <p:nvPr/>
          </p:nvSpPr>
          <p:spPr>
            <a:xfrm>
              <a:off x="3695760" y="5172120"/>
              <a:ext cx="445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1"/>
            <p:cNvSpPr/>
            <p:nvPr/>
          </p:nvSpPr>
          <p:spPr>
            <a:xfrm>
              <a:off x="3581280" y="5172120"/>
              <a:ext cx="464832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timated Number of Periods in the Life of the Ass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15E189-66EB-4D72-8D89-8BF8DAADDE09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01600" y="1346040"/>
            <a:ext cx="881856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You purchased a truck for $78,000 on January 1, 2007.  It is estimated that the truck will be used for six years, and at the end of that time, could be sold for $7,800.  What is the annual depreci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raight-Line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143000" y="3613320"/>
            <a:ext cx="7086600" cy="1494360"/>
            <a:chOff x="1143000" y="3613320"/>
            <a:chExt cx="7086600" cy="1494360"/>
          </a:xfrm>
        </p:grpSpPr>
        <p:sp>
          <p:nvSpPr>
            <p:cNvPr id="116" name="Text Box 5"/>
            <p:cNvSpPr/>
            <p:nvPr/>
          </p:nvSpPr>
          <p:spPr>
            <a:xfrm>
              <a:off x="1143000" y="3775320"/>
              <a:ext cx="2209680" cy="11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ight-Line Depreciation for one yea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3187440" y="4092840"/>
              <a:ext cx="4572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3657600" y="3613320"/>
              <a:ext cx="228600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iginal Cost of Ass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8"/>
            <p:cNvSpPr/>
            <p:nvPr/>
          </p:nvSpPr>
          <p:spPr>
            <a:xfrm>
              <a:off x="5638680" y="3800520"/>
              <a:ext cx="4572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9"/>
            <p:cNvSpPr/>
            <p:nvPr/>
          </p:nvSpPr>
          <p:spPr>
            <a:xfrm>
              <a:off x="5867280" y="3613320"/>
              <a:ext cx="236232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timated Salvage Valu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10"/>
            <p:cNvSpPr/>
            <p:nvPr/>
          </p:nvSpPr>
          <p:spPr>
            <a:xfrm>
              <a:off x="3695760" y="4334040"/>
              <a:ext cx="445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3581280" y="4334040"/>
              <a:ext cx="464832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timated Number of Periods in the Life of the Ass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Group 20"/>
          <p:cNvGrpSpPr/>
          <p:nvPr/>
        </p:nvGrpSpPr>
        <p:grpSpPr>
          <a:xfrm>
            <a:off x="3187800" y="5105520"/>
            <a:ext cx="5041800" cy="966960"/>
            <a:chOff x="3187800" y="5105520"/>
            <a:chExt cx="5041800" cy="966960"/>
          </a:xfrm>
        </p:grpSpPr>
        <p:sp>
          <p:nvSpPr>
            <p:cNvPr id="124" name="Text Box 14"/>
            <p:cNvSpPr/>
            <p:nvPr/>
          </p:nvSpPr>
          <p:spPr>
            <a:xfrm>
              <a:off x="3187800" y="5397480"/>
              <a:ext cx="4572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Text Box 15"/>
            <p:cNvSpPr/>
            <p:nvPr/>
          </p:nvSpPr>
          <p:spPr>
            <a:xfrm>
              <a:off x="3657600" y="5216400"/>
              <a:ext cx="22860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78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16"/>
            <p:cNvSpPr/>
            <p:nvPr/>
          </p:nvSpPr>
          <p:spPr>
            <a:xfrm>
              <a:off x="5638680" y="5105520"/>
              <a:ext cx="4572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17"/>
            <p:cNvSpPr/>
            <p:nvPr/>
          </p:nvSpPr>
          <p:spPr>
            <a:xfrm>
              <a:off x="5867280" y="5216400"/>
              <a:ext cx="23623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7,8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18"/>
            <p:cNvSpPr/>
            <p:nvPr/>
          </p:nvSpPr>
          <p:spPr>
            <a:xfrm>
              <a:off x="3695760" y="5638680"/>
              <a:ext cx="445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19"/>
            <p:cNvSpPr/>
            <p:nvPr/>
          </p:nvSpPr>
          <p:spPr>
            <a:xfrm>
              <a:off x="3581280" y="5638680"/>
              <a:ext cx="46483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Group 28"/>
          <p:cNvGrpSpPr/>
          <p:nvPr/>
        </p:nvGrpSpPr>
        <p:grpSpPr>
          <a:xfrm>
            <a:off x="3073320" y="6083280"/>
            <a:ext cx="2286000" cy="547200"/>
            <a:chOff x="3073320" y="6083280"/>
            <a:chExt cx="2286000" cy="547200"/>
          </a:xfrm>
        </p:grpSpPr>
        <p:sp>
          <p:nvSpPr>
            <p:cNvPr id="131" name="Text Box 22"/>
            <p:cNvSpPr/>
            <p:nvPr/>
          </p:nvSpPr>
          <p:spPr>
            <a:xfrm>
              <a:off x="3187800" y="6083280"/>
              <a:ext cx="4572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Text Box 23"/>
            <p:cNvSpPr/>
            <p:nvPr/>
          </p:nvSpPr>
          <p:spPr>
            <a:xfrm>
              <a:off x="3073320" y="6121440"/>
              <a:ext cx="22860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1,7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FACFFB-3A96-4B3B-8468-0A43866C63D1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01600" y="1346040"/>
            <a:ext cx="881856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You purchased furniture for $5,120 on January 1, 2007.  It is estimated that the furniture will be used for 10 years, and at the end of that time, could be sold for $500.  What is the annual depreci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raight-Line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1143000" y="3613320"/>
            <a:ext cx="7086600" cy="1494360"/>
            <a:chOff x="1143000" y="3613320"/>
            <a:chExt cx="7086600" cy="1494360"/>
          </a:xfrm>
        </p:grpSpPr>
        <p:sp>
          <p:nvSpPr>
            <p:cNvPr id="137" name="Text Box 5"/>
            <p:cNvSpPr/>
            <p:nvPr/>
          </p:nvSpPr>
          <p:spPr>
            <a:xfrm>
              <a:off x="1143000" y="3775320"/>
              <a:ext cx="2209680" cy="11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ight-Line Depreciation for one yea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6"/>
            <p:cNvSpPr/>
            <p:nvPr/>
          </p:nvSpPr>
          <p:spPr>
            <a:xfrm>
              <a:off x="3187440" y="4092840"/>
              <a:ext cx="4572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 Box 7"/>
            <p:cNvSpPr/>
            <p:nvPr/>
          </p:nvSpPr>
          <p:spPr>
            <a:xfrm>
              <a:off x="3657600" y="3613320"/>
              <a:ext cx="228600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iginal Cost of Ass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5638680" y="3800520"/>
              <a:ext cx="4572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5867280" y="3613320"/>
              <a:ext cx="236232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timated Salvage Valu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>
              <a:off x="3695760" y="4334040"/>
              <a:ext cx="445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3581280" y="4334040"/>
              <a:ext cx="464832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timated Number of Periods in the Life of the Ass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Group 12"/>
          <p:cNvGrpSpPr/>
          <p:nvPr/>
        </p:nvGrpSpPr>
        <p:grpSpPr>
          <a:xfrm>
            <a:off x="3187800" y="5105520"/>
            <a:ext cx="5041800" cy="966960"/>
            <a:chOff x="3187800" y="5105520"/>
            <a:chExt cx="5041800" cy="966960"/>
          </a:xfrm>
        </p:grpSpPr>
        <p:sp>
          <p:nvSpPr>
            <p:cNvPr id="145" name="Text Box 13"/>
            <p:cNvSpPr/>
            <p:nvPr/>
          </p:nvSpPr>
          <p:spPr>
            <a:xfrm>
              <a:off x="3187800" y="5397480"/>
              <a:ext cx="4572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14"/>
            <p:cNvSpPr/>
            <p:nvPr/>
          </p:nvSpPr>
          <p:spPr>
            <a:xfrm>
              <a:off x="3657600" y="5216400"/>
              <a:ext cx="22860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5,12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15"/>
            <p:cNvSpPr/>
            <p:nvPr/>
          </p:nvSpPr>
          <p:spPr>
            <a:xfrm>
              <a:off x="5638680" y="5105520"/>
              <a:ext cx="4572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 Box 16"/>
            <p:cNvSpPr/>
            <p:nvPr/>
          </p:nvSpPr>
          <p:spPr>
            <a:xfrm>
              <a:off x="5867280" y="5216400"/>
              <a:ext cx="23623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5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17"/>
            <p:cNvSpPr/>
            <p:nvPr/>
          </p:nvSpPr>
          <p:spPr>
            <a:xfrm>
              <a:off x="3695760" y="5638680"/>
              <a:ext cx="445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3581280" y="5638680"/>
              <a:ext cx="46483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Group 19"/>
          <p:cNvGrpSpPr/>
          <p:nvPr/>
        </p:nvGrpSpPr>
        <p:grpSpPr>
          <a:xfrm>
            <a:off x="3073320" y="6083280"/>
            <a:ext cx="2286000" cy="547200"/>
            <a:chOff x="3073320" y="6083280"/>
            <a:chExt cx="2286000" cy="547200"/>
          </a:xfrm>
        </p:grpSpPr>
        <p:sp>
          <p:nvSpPr>
            <p:cNvPr id="152" name="Text Box 20"/>
            <p:cNvSpPr/>
            <p:nvPr/>
          </p:nvSpPr>
          <p:spPr>
            <a:xfrm>
              <a:off x="3187800" y="6083280"/>
              <a:ext cx="4572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21"/>
            <p:cNvSpPr/>
            <p:nvPr/>
          </p:nvSpPr>
          <p:spPr>
            <a:xfrm>
              <a:off x="3073320" y="6121440"/>
              <a:ext cx="22860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46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A6C230-B827-4E5F-B3FE-2728217EEBC2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01600" y="1346040"/>
            <a:ext cx="8818560" cy="53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en adjusting for depreciation you would expect to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DR  Depreciation Expense 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    CR  As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order to show the value of the Asset at cost, you would not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CR  Asset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for the depreciation  …  rather you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CR  Accumulated Depreciation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justing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E23970-516D-4AD9-9A93-B921CAFF206E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01600" y="1346040"/>
            <a:ext cx="8818560" cy="53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umulated depreciation is a valuation or contra accou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ontra accoun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is one that is displayed alongside an associated account and has a balance that is opposite to the account it is associated wit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spcBef>
                <a:spcPts val="799"/>
              </a:spcBef>
              <a:buClr>
                <a:srgbClr val="002475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umulated depreciation is also known as a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valuation accoun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…  an account that is used, together with an asset account,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how the true net value (or net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ok value) of the asse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73160" y="-30600"/>
            <a:ext cx="879624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ccumulated Deprec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ilroy</dc:creator>
  <dc:description/>
  <dc:language>en-US</dc:language>
  <cp:lastModifiedBy>Cameron Stott</cp:lastModifiedBy>
  <dcterms:modified xsi:type="dcterms:W3CDTF">2016-05-04T02:08:08Z</dcterms:modified>
  <cp:revision>24</cp:revision>
  <dc:subject/>
  <dc:title>PowerPoint Presentation</dc:title>
</cp:coreProperties>
</file>